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FE4-0961-44E1-A55D-312C19B2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48A-E69D-419C-BBC6-3E23A3DF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F21-B3FA-4298-BD3A-6792B43F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F5C-64D4-4C74-BF5D-D9B6EF41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F5F-4BA8-4ED1-B46E-ACDA0779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79C-2B0E-4D04-8702-AF19AA62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7D9-FB03-436C-8E68-35F8E05C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9C0-9818-477F-BBD5-67EBA972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128-A2B9-41CF-9B63-D39F9B77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15C-C699-40DC-8CD5-4F6E3BC4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5D5-0AFA-49D3-A5A3-2C6F72C0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11F-007F-449D-9E27-0068C01B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97CF-69CB-47E7-BED2-2DECAA2649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5257800"/>
            <a:ext cx="533520" cy="457200"/>
          </a:xfrm>
          <a:prstGeom prst="star5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5257800"/>
            <a:ext cx="533520" cy="457200"/>
          </a:xfrm>
          <a:prstGeom prst="star5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257800"/>
            <a:ext cx="533520" cy="457200"/>
          </a:xfrm>
          <a:prstGeom prst="star5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257800"/>
            <a:ext cx="533520" cy="457200"/>
          </a:xfrm>
          <a:prstGeom prst="star5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5257800"/>
            <a:ext cx="533520" cy="457200"/>
          </a:xfrm>
          <a:prstGeom prst="star5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5257800"/>
            <a:ext cx="533160" cy="457200"/>
          </a:xfrm>
          <a:prstGeom prst="star5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05720" y="5257800"/>
            <a:ext cx="533160" cy="457200"/>
          </a:xfrm>
          <a:prstGeom prst="star5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5257800"/>
            <a:ext cx="533520" cy="457200"/>
          </a:xfrm>
          <a:prstGeom prst="star5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5257800"/>
            <a:ext cx="533160" cy="457200"/>
          </a:xfrm>
          <a:prstGeom prst="star5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257800"/>
            <a:ext cx="533520" cy="457200"/>
          </a:xfrm>
          <a:prstGeom prst="star5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828800" y="5257800"/>
            <a:ext cx="5410080" cy="457200"/>
            <a:chOff x="1828800" y="5257800"/>
            <a:chExt cx="5410080" cy="457200"/>
          </a:xfrm>
        </p:grpSpPr>
        <p:sp>
          <p:nvSpPr>
            <p:cNvPr id="52" name=""/>
            <p:cNvSpPr/>
            <p:nvPr/>
          </p:nvSpPr>
          <p:spPr>
            <a:xfrm>
              <a:off x="4572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722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055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057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623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38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386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88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648320" y="4800600"/>
            <a:ext cx="533160" cy="457200"/>
          </a:xfrm>
          <a:prstGeom prst="star5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4800600"/>
            <a:ext cx="533520" cy="457200"/>
          </a:xfrm>
          <a:prstGeom prst="star5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800600"/>
            <a:ext cx="533160" cy="457200"/>
          </a:xfrm>
          <a:prstGeom prst="star5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4800600"/>
            <a:ext cx="533520" cy="457200"/>
          </a:xfrm>
          <a:prstGeom prst="star5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4800600"/>
            <a:ext cx="533520" cy="457200"/>
          </a:xfrm>
          <a:prstGeom prst="star5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800600"/>
            <a:ext cx="533520" cy="457200"/>
          </a:xfrm>
          <a:prstGeom prst="star5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4800600"/>
            <a:ext cx="533160" cy="457200"/>
          </a:xfrm>
          <a:prstGeom prst="star5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4800600"/>
            <a:ext cx="533520" cy="457200"/>
          </a:xfrm>
          <a:prstGeom prst="star5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828800" y="4800600"/>
            <a:ext cx="5410080" cy="914400"/>
            <a:chOff x="1828800" y="4800600"/>
            <a:chExt cx="5410080" cy="914400"/>
          </a:xfrm>
        </p:grpSpPr>
        <p:sp>
          <p:nvSpPr>
            <p:cNvPr id="71" name=""/>
            <p:cNvSpPr/>
            <p:nvPr/>
          </p:nvSpPr>
          <p:spPr>
            <a:xfrm>
              <a:off x="56386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057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8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83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055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722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623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718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8148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288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053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150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485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3828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572000" y="4343400"/>
            <a:ext cx="533520" cy="4572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343400"/>
            <a:ext cx="533520" cy="4572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4343400"/>
            <a:ext cx="533520" cy="4572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4343400"/>
            <a:ext cx="533520" cy="4572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343400"/>
            <a:ext cx="533520" cy="4572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4343400"/>
            <a:ext cx="533160" cy="4572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828800" y="4343400"/>
            <a:ext cx="5410080" cy="1371600"/>
            <a:chOff x="1828800" y="4343400"/>
            <a:chExt cx="5410080" cy="1371600"/>
          </a:xfrm>
        </p:grpSpPr>
        <p:sp>
          <p:nvSpPr>
            <p:cNvPr id="96" name=""/>
            <p:cNvSpPr/>
            <p:nvPr/>
          </p:nvSpPr>
          <p:spPr>
            <a:xfrm>
              <a:off x="4038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9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55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623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483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485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95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053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384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900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7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50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54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148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386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48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05520" y="4343400"/>
              <a:ext cx="53316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648320" y="3886200"/>
            <a:ext cx="533160" cy="4572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3886200"/>
            <a:ext cx="533520" cy="4572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3886200"/>
            <a:ext cx="533160" cy="4572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886200"/>
            <a:ext cx="533520" cy="4572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828800" y="3886200"/>
            <a:ext cx="5410080" cy="1828800"/>
            <a:chOff x="1828800" y="3886200"/>
            <a:chExt cx="5410080" cy="1828800"/>
          </a:xfrm>
        </p:grpSpPr>
        <p:sp>
          <p:nvSpPr>
            <p:cNvPr id="125" name=""/>
            <p:cNvSpPr/>
            <p:nvPr/>
          </p:nvSpPr>
          <p:spPr>
            <a:xfrm>
              <a:off x="4038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95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150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623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718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900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954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386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057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83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5520" y="4343400"/>
              <a:ext cx="53316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8320" y="3886200"/>
              <a:ext cx="53316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4800" y="3886200"/>
              <a:ext cx="53352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148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3828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384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5320" y="3886200"/>
              <a:ext cx="53316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055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386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886200"/>
              <a:ext cx="53352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572000" y="3429000"/>
            <a:ext cx="533520" cy="457200"/>
          </a:xfrm>
          <a:prstGeom prst="star5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3429000"/>
            <a:ext cx="533520" cy="457200"/>
          </a:xfrm>
          <a:prstGeom prst="star5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828800" y="3429000"/>
            <a:ext cx="5410080" cy="2286000"/>
            <a:chOff x="1828800" y="3429000"/>
            <a:chExt cx="5410080" cy="2286000"/>
          </a:xfrm>
        </p:grpSpPr>
        <p:sp>
          <p:nvSpPr>
            <p:cNvPr id="156" name=""/>
            <p:cNvSpPr/>
            <p:nvPr/>
          </p:nvSpPr>
          <p:spPr>
            <a:xfrm>
              <a:off x="46483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53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3886200"/>
              <a:ext cx="53352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2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95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48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50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900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4343400"/>
              <a:ext cx="53316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8320" y="3886200"/>
              <a:ext cx="53316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05320" y="3886200"/>
              <a:ext cx="53316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9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386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055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288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148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3828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384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0" y="3429000"/>
              <a:ext cx="533520" cy="4572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057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485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86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81480" y="3886200"/>
              <a:ext cx="53352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8480" y="3429000"/>
              <a:ext cx="533520" cy="4572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305240" y="2971800"/>
            <a:ext cx="533520" cy="457200"/>
          </a:xfrm>
          <a:prstGeom prst="star5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48320" y="4800600"/>
            <a:ext cx="533160" cy="457200"/>
          </a:xfrm>
          <a:prstGeom prst="star5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4800600"/>
            <a:ext cx="533160" cy="457200"/>
          </a:xfrm>
          <a:prstGeom prst="star5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4343400"/>
            <a:ext cx="533520" cy="4572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3886200"/>
            <a:ext cx="533520" cy="4572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895480" y="3886200"/>
            <a:ext cx="3810240" cy="1828800"/>
            <a:chOff x="2895480" y="3886200"/>
            <a:chExt cx="3810240" cy="1828800"/>
          </a:xfrm>
        </p:grpSpPr>
        <p:sp>
          <p:nvSpPr>
            <p:cNvPr id="192" name=""/>
            <p:cNvSpPr/>
            <p:nvPr/>
          </p:nvSpPr>
          <p:spPr>
            <a:xfrm>
              <a:off x="4572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95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722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148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2900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4343400"/>
              <a:ext cx="53316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48320" y="3886200"/>
              <a:ext cx="53316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05320" y="3886200"/>
              <a:ext cx="53316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828800" y="3429000"/>
            <a:ext cx="4343400" cy="2286000"/>
            <a:chOff x="1828800" y="3429000"/>
            <a:chExt cx="4343400" cy="2286000"/>
          </a:xfrm>
        </p:grpSpPr>
        <p:sp>
          <p:nvSpPr>
            <p:cNvPr id="202" name=""/>
            <p:cNvSpPr/>
            <p:nvPr/>
          </p:nvSpPr>
          <p:spPr>
            <a:xfrm>
              <a:off x="3429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386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055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23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288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148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3828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384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3429000"/>
              <a:ext cx="533520" cy="4572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895480" y="3429000"/>
            <a:ext cx="4343400" cy="2286000"/>
            <a:chOff x="2895480" y="3429000"/>
            <a:chExt cx="4343400" cy="2286000"/>
          </a:xfrm>
        </p:grpSpPr>
        <p:sp>
          <p:nvSpPr>
            <p:cNvPr id="212" name=""/>
            <p:cNvSpPr/>
            <p:nvPr/>
          </p:nvSpPr>
          <p:spPr>
            <a:xfrm>
              <a:off x="4038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057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8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485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54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386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81480" y="3886200"/>
              <a:ext cx="53352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38480" y="3429000"/>
              <a:ext cx="533520" cy="4572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05240" y="2971800"/>
            <a:ext cx="533520" cy="457200"/>
          </a:xfrm>
          <a:prstGeom prst="star5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648320" y="4800600"/>
            <a:ext cx="533160" cy="457200"/>
          </a:xfrm>
          <a:prstGeom prst="star5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4800600"/>
            <a:ext cx="533160" cy="457200"/>
          </a:xfrm>
          <a:prstGeom prst="star5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343400"/>
            <a:ext cx="533520" cy="4572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3886200"/>
            <a:ext cx="533520" cy="4572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95480" y="3886200"/>
            <a:ext cx="3810240" cy="1828800"/>
            <a:chOff x="2895480" y="3886200"/>
            <a:chExt cx="3810240" cy="1828800"/>
          </a:xfrm>
        </p:grpSpPr>
        <p:sp>
          <p:nvSpPr>
            <p:cNvPr id="226" name=""/>
            <p:cNvSpPr/>
            <p:nvPr/>
          </p:nvSpPr>
          <p:spPr>
            <a:xfrm>
              <a:off x="4572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95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22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148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150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2900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520" y="4343400"/>
              <a:ext cx="53316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48320" y="3886200"/>
              <a:ext cx="53316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5320" y="3886200"/>
              <a:ext cx="53316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828800" y="3429000"/>
            <a:ext cx="4343400" cy="2286000"/>
            <a:chOff x="1828800" y="3429000"/>
            <a:chExt cx="4343400" cy="2286000"/>
          </a:xfrm>
        </p:grpSpPr>
        <p:sp>
          <p:nvSpPr>
            <p:cNvPr id="236" name=""/>
            <p:cNvSpPr/>
            <p:nvPr/>
          </p:nvSpPr>
          <p:spPr>
            <a:xfrm>
              <a:off x="34290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386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055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623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2880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8148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3828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384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2000" y="3429000"/>
              <a:ext cx="533520" cy="4572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895480" y="3429000"/>
            <a:ext cx="4343400" cy="2286000"/>
            <a:chOff x="2895480" y="3429000"/>
            <a:chExt cx="4343400" cy="2286000"/>
          </a:xfrm>
        </p:grpSpPr>
        <p:sp>
          <p:nvSpPr>
            <p:cNvPr id="246" name=""/>
            <p:cNvSpPr/>
            <p:nvPr/>
          </p:nvSpPr>
          <p:spPr>
            <a:xfrm>
              <a:off x="4038480" y="5257800"/>
              <a:ext cx="53352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05720" y="5257800"/>
              <a:ext cx="533160" cy="457200"/>
            </a:xfrm>
            <a:prstGeom prst="star5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71800" y="4800600"/>
              <a:ext cx="53352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8520" y="4800600"/>
              <a:ext cx="533160" cy="457200"/>
            </a:xfrm>
            <a:prstGeom prst="star5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954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38680" y="4343400"/>
              <a:ext cx="533520" cy="45720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81480" y="3886200"/>
              <a:ext cx="533520" cy="45720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38480" y="3429000"/>
              <a:ext cx="533520" cy="4572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305240" y="2971800"/>
            <a:ext cx="533520" cy="457200"/>
          </a:xfrm>
          <a:prstGeom prst="star5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1:23:07Z</dcterms:created>
  <dc:creator>デジタルコンテンツ研究会</dc:creator>
  <dc:description/>
  <dc:language>en-US</dc:language>
  <cp:lastModifiedBy>Wolf</cp:lastModifiedBy>
  <dcterms:modified xsi:type="dcterms:W3CDTF">2005-11-06T05:17:17Z</dcterms:modified>
  <cp:revision>8</cp:revision>
  <dc:subject/>
  <dc:title>stars</dc:title>
</cp:coreProperties>
</file>