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C36-44B3-4625-8B01-9D141E1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7FD-59CF-4D33-B6B4-555123C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A4F-2F23-4A7D-8804-D088EE4E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7C3-658C-480A-815D-12C996E5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551-D65E-427A-AE79-601A0F4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5E-668F-4369-A94C-BAE400B2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2B1-860C-4112-A513-152D027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E16-94C1-404F-8C9A-72B21BE2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C22-03C6-4B9E-821C-980FE35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E7D-15E7-4BF2-AA52-9652FFA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5DA-F0CA-412B-8168-68A06DA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7B6-EA3B-4B1C-9D02-7B774273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857-2EE3-4B6C-804F-6D9D16E84A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038480"/>
            <a:ext cx="1295280" cy="1295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31240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5dae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038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362320"/>
            <a:ext cx="12952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609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4038480"/>
            <a:ext cx="1295280" cy="1295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143000"/>
            <a:ext cx="1295640" cy="129528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5dae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038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2057400"/>
            <a:ext cx="12952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59092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4038480"/>
            <a:ext cx="1295280" cy="1295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1240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5dae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29718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09560" y="4267080"/>
            <a:ext cx="129564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2120"/>
            <a:ext cx="1295640" cy="129528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1600" y="4038480"/>
            <a:ext cx="1295280" cy="1295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1240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5dae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38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362320"/>
            <a:ext cx="12952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09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038480"/>
            <a:ext cx="1295280" cy="1295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9609200">
            <a:off x="3276000" y="289548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5daeff"/>
              </a:gs>
              <a:gs pos="100000">
                <a:srgbClr val="ffccff"/>
              </a:gs>
            </a:gsLst>
            <a:lin ang="81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6858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038480"/>
            <a:ext cx="129564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40384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29400" y="5105520"/>
            <a:ext cx="380880" cy="228600"/>
          </a:xfrm>
          <a:prstGeom prst="cloudCallout">
            <a:avLst>
              <a:gd name="adj1" fmla="val -73750"/>
              <a:gd name="adj2" fmla="val -68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00800" y="5334120"/>
            <a:ext cx="380880" cy="228600"/>
          </a:xfrm>
          <a:prstGeom prst="cloudCallout">
            <a:avLst>
              <a:gd name="adj1" fmla="val -73750"/>
              <a:gd name="adj2" fmla="val -68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1:48:19Z</dcterms:created>
  <dc:creator>デジタルコンテンツ研究会</dc:creator>
  <dc:description/>
  <dc:language>en-US</dc:language>
  <cp:lastModifiedBy>Wolf</cp:lastModifiedBy>
  <dcterms:modified xsi:type="dcterms:W3CDTF">2005-11-03T11:11:18Z</dcterms:modified>
  <cp:revision>3</cp:revision>
  <dc:subject/>
  <dc:title>balls</dc:title>
</cp:coreProperties>
</file>