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8DD-FD6D-4ADF-84DC-5E011F03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B80-465E-4055-B880-68751064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5EA-DD8C-424C-A3F1-8134053A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602-9316-4E2D-AD16-06C56CFD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22B-04AA-4348-B9AE-55B2BB3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EEC-FD0B-453F-94AC-1436B29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B4B-ABE3-4959-B24F-14E6C85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D68-F555-4306-8AB8-17E31F7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8EC-5370-4EB2-9A5E-397C37D1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5D6-0B7F-4A4C-A17A-5467612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64D-91E9-4FD2-AF00-9E37B7E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FB9-1693-4DA6-AE26-A077BFB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FE4-6FE0-48AC-9F79-59484D3F63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703440"/>
          <a:ext cx="784872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03440"/>
                    <a:ext cx="784872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62120" y="533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丸・三角・四角・多角形など基本図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020800">
            <a:off x="1599840" y="480060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421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オートシェイプを押すと図形一覧がでます。基本図形を押すと右側の図が出ます。好きな図形を選んで左クリック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635800" y="457200"/>
          <a:ext cx="150156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5800" y="457200"/>
                    <a:ext cx="15015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321600" y="2948040"/>
          <a:ext cx="2517480" cy="19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1600" y="2948040"/>
                    <a:ext cx="25174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5560" y="1752480"/>
          <a:ext cx="3917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752480"/>
                    <a:ext cx="3917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0" y="2095560"/>
          <a:ext cx="4295880" cy="43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95560"/>
                    <a:ext cx="4295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10160" y="41292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209560" y="43578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04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図形のコピ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8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図形を選んで右クリックし、コピーを選びます、次にもう１度右クリックし、貼り付けを選びます。後は好きなところに図形を移動して張りつけ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762120"/>
          <a:ext cx="34290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34290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029200" y="476280"/>
          <a:ext cx="368784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76280"/>
                    <a:ext cx="36878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6280" y="3429000"/>
          <a:ext cx="2970000" cy="298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3429000"/>
                    <a:ext cx="2970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076640" y="198108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グループ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」キーを押しながら、図形を選択し、右クリックします。次に、「図形の調整」を押してグループ化を選び右クリックします。複数の図形が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つの図形として認識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893960"/>
          <a:ext cx="4038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3960"/>
                    <a:ext cx="4038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00600" y="1893960"/>
          <a:ext cx="3886200" cy="360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893960"/>
                    <a:ext cx="38862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50532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シートのコピ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9528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486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数字の横のシートマークを選び、「編集」の「コピー」を選択します。「編集」の「貼り付け」を押すと新たらしい「シート」が次の番号につくら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724280"/>
            <a:ext cx="1219320" cy="228600"/>
          </a:xfrm>
          <a:prstGeom prst="leftArrow">
            <a:avLst>
              <a:gd name="adj1" fmla="val 50000"/>
              <a:gd name="adj2" fmla="val 13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280" y="838080"/>
          <a:ext cx="708660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70866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81080" y="1828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いろいろな矢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91320" y="2971800"/>
          <a:ext cx="174132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971800"/>
                    <a:ext cx="17413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609480"/>
          <a:ext cx="1501920" cy="253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09480"/>
                    <a:ext cx="150192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705720" y="914400"/>
          <a:ext cx="2049480" cy="31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914400"/>
                    <a:ext cx="2049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553080" y="304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フローチャー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57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図形一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611280"/>
          <a:ext cx="7696080" cy="56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1280"/>
                    <a:ext cx="769608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20968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星・リボ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952880" y="457200"/>
          <a:ext cx="247356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57200"/>
                    <a:ext cx="2473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324480" y="2819520"/>
          <a:ext cx="1884600" cy="19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819520"/>
                    <a:ext cx="188460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172200" y="762120"/>
          <a:ext cx="233676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762120"/>
                    <a:ext cx="23367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40080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吹き出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図形一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10080" y="609480"/>
          <a:ext cx="197352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09480"/>
                    <a:ext cx="19735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33520" y="1066680"/>
          <a:ext cx="1828800" cy="17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066680"/>
                    <a:ext cx="182880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28600" y="3429000"/>
          <a:ext cx="3962520" cy="32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429000"/>
                    <a:ext cx="396252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72000" y="3429000"/>
          <a:ext cx="3954600" cy="32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429000"/>
                    <a:ext cx="39546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200400" y="1219320"/>
          <a:ext cx="1219320" cy="109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1219320"/>
                    <a:ext cx="12193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0" y="167652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8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色や模様をつけると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3716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3440" y="2743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その他の色は標準とユーザー設定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228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線だけにしたいときは、　　　　　　　　　　　塗りつぶしなしを選び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0480" y="102888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3000" y="3471840"/>
          <a:ext cx="412884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3471840"/>
                    <a:ext cx="41288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0" y="46080"/>
          <a:ext cx="4214880" cy="33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6080"/>
                    <a:ext cx="421488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72000" y="3481560"/>
          <a:ext cx="4175280" cy="33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481560"/>
                    <a:ext cx="4175280" cy="33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838080" y="990720"/>
          <a:ext cx="1897200" cy="16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990720"/>
                    <a:ext cx="189720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0" y="2057400"/>
            <a:ext cx="1600200" cy="304920"/>
          </a:xfrm>
          <a:prstGeom prst="leftArrow">
            <a:avLst>
              <a:gd name="adj1" fmla="val 50000"/>
              <a:gd name="adj2" fmla="val 13119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塗りつぶしの効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3520" y="1981080"/>
          <a:ext cx="594360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594360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248520" y="3429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図形をきれいに並べたいとき「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」を押しながら図形を選択し、「図形の調整」の「配置／整列」を押します。一覧の中から選んで左クリック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990720"/>
          <a:ext cx="3848040" cy="15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384804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094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図形の整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219320" y="2590920"/>
          <a:ext cx="619416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194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895480" y="60948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143000"/>
            <a:ext cx="20574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33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順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図形が重なったとき、どれを上にするかを設定し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09480" y="971640"/>
          <a:ext cx="800100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71640"/>
                    <a:ext cx="80010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143000" y="380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回転・左右反転・上下反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321600" y="685800"/>
          <a:ext cx="150156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1600" y="685800"/>
                    <a:ext cx="150156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878520" y="2590920"/>
          <a:ext cx="2265480" cy="19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8520" y="2590920"/>
                    <a:ext cx="22654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80880" y="304920"/>
          <a:ext cx="2662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2662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3520" y="2895480"/>
          <a:ext cx="2563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2563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410080" y="843120"/>
          <a:ext cx="3533760" cy="51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843120"/>
                    <a:ext cx="3533760" cy="51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4320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回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拡大・縮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339800">
            <a:off x="6586560" y="60814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5715000"/>
          <a:ext cx="36576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5715000"/>
                    <a:ext cx="3657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666880" y="4952880"/>
            <a:ext cx="914400" cy="762120"/>
          </a:xfrm>
          <a:prstGeom prst="wedgeRectCallout">
            <a:avLst>
              <a:gd name="adj1" fmla="val -10935"/>
              <a:gd name="adj2" fmla="val 9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拡大・縮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5334120"/>
            <a:ext cx="838080" cy="457200"/>
          </a:xfrm>
          <a:prstGeom prst="wedgeRectCallout">
            <a:avLst>
              <a:gd name="adj1" fmla="val -65907"/>
              <a:gd name="adj2" fmla="val 10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回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影を押し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24:48Z</dcterms:created>
  <dc:creator>デジタルコンテンツ研究会</dc:creator>
  <dc:description/>
  <dc:language>en-US</dc:language>
  <cp:lastModifiedBy>Wolf</cp:lastModifiedBy>
  <dcterms:modified xsi:type="dcterms:W3CDTF">2005-11-04T12:33:54Z</dcterms:modified>
  <cp:revision>4</cp:revision>
  <dc:subject/>
  <dc:title>PowerPoint マニュアル</dc:title>
</cp:coreProperties>
</file>