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4847-8273-4FC7-B6E3-6467D54D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D27D-37A8-4A20-8A2F-2C4E9167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1382-A6F1-4635-B6B7-7BD67FFD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32AB-2EDF-4367-B9C6-BEF5D640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AE9F-2735-406A-B203-A0F673AB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9F56-7DD5-49A6-9058-E89647F9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5118-965A-479B-A5CE-F1F1F4B2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0894-F039-44F4-97E6-2E579B2B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739E-9292-4E36-96B4-1ABD5A2D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9A6A-D786-4EC6-9CFA-FA80D3D1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A14D-6DEB-4F60-9160-6733EDFB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3D05-FF65-45BA-9AEE-E0EE27B7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9A0B-CD49-458D-89DB-54C0202BCE6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182600">
            <a:off x="1142640" y="1523880"/>
            <a:ext cx="1600200" cy="41911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 rot="955800">
            <a:off x="2362320" y="1523880"/>
            <a:ext cx="1600200" cy="41911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954000">
            <a:off x="652320" y="2120760"/>
            <a:ext cx="1557360" cy="32083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955800">
            <a:off x="3962520" y="1523880"/>
            <a:ext cx="1600200" cy="41911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954000">
            <a:off x="2209320" y="2131920"/>
            <a:ext cx="1683000" cy="29718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954000">
            <a:off x="471600" y="2666520"/>
            <a:ext cx="1600200" cy="30290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 rot="955800">
            <a:off x="5348160" y="1552680"/>
            <a:ext cx="1600200" cy="41907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954000">
            <a:off x="3524040" y="2655720"/>
            <a:ext cx="1600200" cy="3062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954000">
            <a:off x="1947600" y="2728440"/>
            <a:ext cx="1600200" cy="22240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954000">
            <a:off x="364680" y="3141720"/>
            <a:ext cx="1613160" cy="11350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rot="955800">
            <a:off x="7086600" y="1523880"/>
            <a:ext cx="1600200" cy="41911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954000">
            <a:off x="5392440" y="2174760"/>
            <a:ext cx="1600200" cy="2833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954000">
            <a:off x="3603240" y="2906640"/>
            <a:ext cx="1600200" cy="2681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954000">
            <a:off x="1895040" y="3121200"/>
            <a:ext cx="1600200" cy="224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954000">
            <a:off x="152280" y="3809520"/>
            <a:ext cx="1729080" cy="16002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3732120" y="139320"/>
            <a:ext cx="4418280" cy="1797120"/>
            <a:chOff x="3732120" y="139320"/>
            <a:chExt cx="4418280" cy="1797120"/>
          </a:xfrm>
        </p:grpSpPr>
        <p:sp>
          <p:nvSpPr>
            <p:cNvPr id="57" name=""/>
            <p:cNvSpPr/>
            <p:nvPr/>
          </p:nvSpPr>
          <p:spPr>
            <a:xfrm rot="370800">
              <a:off x="3733920" y="1404000"/>
              <a:ext cx="4343400" cy="272160"/>
            </a:xfrm>
            <a:custGeom>
              <a:avLst/>
              <a:gdLst>
                <a:gd name="textAreaLeft" fmla="*/ 142560 w 4343400"/>
                <a:gd name="textAreaRight" fmla="*/ 4486320 w 4343400"/>
                <a:gd name="textAreaTop" fmla="*/ 112320 h 272160"/>
                <a:gd name="textAreaBottom" fmla="*/ 159840 h 27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710" y="4459"/>
                  </a:moveTo>
                  <a:cubicBezTo>
                    <a:pt x="7555" y="-11337"/>
                    <a:pt x="14755" y="20255"/>
                    <a:pt x="21600" y="4459"/>
                  </a:cubicBezTo>
                  <a:lnTo>
                    <a:pt x="20890" y="17141"/>
                  </a:lnTo>
                  <a:cubicBezTo>
                    <a:pt x="14045" y="32937"/>
                    <a:pt x="6845" y="1345"/>
                    <a:pt x="0" y="17141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963000">
              <a:off x="4143240" y="1178640"/>
              <a:ext cx="3962520" cy="204120"/>
            </a:xfrm>
            <a:custGeom>
              <a:avLst/>
              <a:gdLst>
                <a:gd name="textAreaLeft" fmla="*/ 129960 w 3962520"/>
                <a:gd name="textAreaRight" fmla="*/ 4092840 w 3962520"/>
                <a:gd name="textAreaTop" fmla="*/ 84240 h 204120"/>
                <a:gd name="textAreaBottom" fmla="*/ 119880 h 20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710" y="4459"/>
                  </a:moveTo>
                  <a:cubicBezTo>
                    <a:pt x="7555" y="-11337"/>
                    <a:pt x="14755" y="20255"/>
                    <a:pt x="21600" y="4459"/>
                  </a:cubicBezTo>
                  <a:lnTo>
                    <a:pt x="20890" y="17141"/>
                  </a:lnTo>
                  <a:cubicBezTo>
                    <a:pt x="14045" y="32937"/>
                    <a:pt x="6845" y="1345"/>
                    <a:pt x="0" y="17141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495200">
              <a:off x="4538160" y="914400"/>
              <a:ext cx="3733920" cy="246960"/>
            </a:xfrm>
            <a:custGeom>
              <a:avLst/>
              <a:gdLst>
                <a:gd name="textAreaLeft" fmla="*/ 122400 w 3733920"/>
                <a:gd name="textAreaRight" fmla="*/ 3856680 w 3733920"/>
                <a:gd name="textAreaTop" fmla="*/ 101880 h 246960"/>
                <a:gd name="textAreaBottom" fmla="*/ 145080 h 24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710" y="4459"/>
                  </a:moveTo>
                  <a:cubicBezTo>
                    <a:pt x="7555" y="-11337"/>
                    <a:pt x="14755" y="20255"/>
                    <a:pt x="21600" y="4459"/>
                  </a:cubicBezTo>
                  <a:lnTo>
                    <a:pt x="20890" y="17141"/>
                  </a:lnTo>
                  <a:cubicBezTo>
                    <a:pt x="14045" y="32937"/>
                    <a:pt x="6845" y="1345"/>
                    <a:pt x="0" y="17141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 rot="955800">
            <a:off x="7162560" y="1533600"/>
            <a:ext cx="1679400" cy="30477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954000">
            <a:off x="5335560" y="2819160"/>
            <a:ext cx="1766880" cy="22096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954000">
            <a:off x="3624120" y="3423960"/>
            <a:ext cx="1676520" cy="1865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954000">
            <a:off x="1905120" y="3581280"/>
            <a:ext cx="1743120" cy="15242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954000">
            <a:off x="343080" y="3749760"/>
            <a:ext cx="1600200" cy="11430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05920" y="2133720"/>
            <a:ext cx="457200" cy="380880"/>
          </a:xfrm>
          <a:custGeom>
            <a:avLst/>
            <a:gdLst>
              <a:gd name="textAreaLeft" fmla="*/ 104400 w 457200"/>
              <a:gd name="textAreaRight" fmla="*/ 352800 w 45720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05920" y="3505320"/>
            <a:ext cx="304560" cy="228600"/>
          </a:xfrm>
          <a:custGeom>
            <a:avLst/>
            <a:gdLst>
              <a:gd name="textAreaLeft" fmla="*/ 71640 w 304560"/>
              <a:gd name="textAreaRight" fmla="*/ 232920 w 304560"/>
              <a:gd name="textAreaTop" fmla="*/ 26640 h 228600"/>
              <a:gd name="textAreaBottom" fmla="*/ 143280 h 2286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0:16:30Z</dcterms:created>
  <dc:creator>デジタルコンテンツ研究会</dc:creator>
  <dc:description/>
  <dc:language>en-US</dc:language>
  <cp:lastModifiedBy>Wolf</cp:lastModifiedBy>
  <dcterms:modified xsi:type="dcterms:W3CDTF">2005-11-03T11:04:50Z</dcterms:modified>
  <cp:revision>3</cp:revision>
  <dc:subject/>
  <dc:title>imomusi</dc:title>
</cp:coreProperties>
</file>